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440" y="4632480"/>
            <a:ext cx="548316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0980-7114-4576-8F4D-B93D61E546F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1D12-3A5F-4421-A822-1512071FB05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440" y="4632480"/>
            <a:ext cx="54831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FAA-AF2D-49D3-A5CB-968A637E7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1EF8-4C1C-4C01-B4B7-B0F09EBE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E57-D1C8-48F3-9C35-1DC5D49C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14E2-88A8-4C58-930B-9D9A86ED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996E-E279-46A5-8CFF-60EA349F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A5EC-07D7-40DB-897A-E8F06F73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B03B-3E06-4E81-B95C-32887178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02D-97AE-4F3F-87A3-50D9B75B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2C5-DE5D-49B5-9586-B6813D99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C766-9DA6-4363-97D1-48345E82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823-553D-44CE-BFBB-442FA88C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F8A0-D323-4161-8EAE-0F6DAA6E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429E-BF5F-4A37-93D0-DF75F4EC1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research/fch/index_en.cf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stovní mapa v oblasti Energetik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600200" y="1295280"/>
            <a:ext cx="5562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Ivan Štekl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ÚTEF ČVUT"/>
          <p:cNvPicPr/>
          <p:nvPr/>
        </p:nvPicPr>
        <p:blipFill>
          <a:blip r:embed="rId1"/>
          <a:stretch/>
        </p:blipFill>
        <p:spPr>
          <a:xfrm>
            <a:off x="457200" y="1981080"/>
            <a:ext cx="441972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logo ÚTEF"/>
          <p:cNvPicPr/>
          <p:nvPr/>
        </p:nvPicPr>
        <p:blipFill>
          <a:blip r:embed="rId2"/>
          <a:stretch/>
        </p:blipFill>
        <p:spPr>
          <a:xfrm>
            <a:off x="5257800" y="1981080"/>
            <a:ext cx="121932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logo ČVUT"/>
          <p:cNvPicPr/>
          <p:nvPr/>
        </p:nvPicPr>
        <p:blipFill>
          <a:blip r:embed="rId3"/>
          <a:stretch/>
        </p:blipFill>
        <p:spPr>
          <a:xfrm>
            <a:off x="7086600" y="1981080"/>
            <a:ext cx="1371600" cy="10638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228600" y="327672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Pracovní skupina energetika v Č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Pracovní skupina energetika v 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Úkoly pracovní skupi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Přehled současných projektů (RI´s) v 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Česká účast v EU projektech a předběžný přehled národních infrastru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Postup činností pracovní skupiny energet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304920"/>
            <a:ext cx="9144000" cy="5337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acovní skupina v Č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Zásady pro její vytvoření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malá skupina, pokrytí všech směrů VaV energeti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2) Seznam členů: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g. Karel Katovský, Ph.D. – Katedra jaderných reaktorů FJFI ČV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NDr. Jiří J. Mareš, Ph.D. – vedoucí sekce Fyzika pevných látek, FzÚ AV Č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NDr. Pavol Mikula, DrSc. –vedoucí oddělení neutronové fyziky, ÚJF AV Č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c. Ing. Tadeáš Ochodek, CSc. – ředitel Výzkumného energetického centra, VŠB-TU Ostr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c. Ing. Petr Toman, Ph.D. – vedoucí Ústavu elektroenergetiky, FEKT VUT B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c. Ing. Ivan Štekl, CSc. – zástupce ředitele ÚTEF ČVUT v Pra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152280"/>
            <a:ext cx="9144000" cy="631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) Pracovní skupina v E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1) Seznam členů:  celkem 20 člen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abriele Fioni (France),  Jean-Marie Carrere (France, předseda), Henrik Bindslev (Denmark),  Harald Bolt (Germany), Nigel Brandon (UK), Ion-Catalin Cristescu (Romania), Francesca Ferrazza (Italy), Morten Gronli (Norway), Laurynas Juodis (Lithuania), Mathew Kennedy (Ireland), Athanasios Konstandopoulos (Greece), Mats Leijon (Sweden), Peter Lund (Finland), Ernest Mund (Belgium), John Rekstad (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way), Enrique Soria Lascore (Spain), Ivan Štekl (ČR), Piotr Tomczyk (Poland), Alexander Wokaun (Switzerland), Brigitte Weiss (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2) Rozdělení podle odbornost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Fuel cells and hydrogen JT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P. Tomczyk, N. Bra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European Biofuels Technology Platfor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A. Wokaun, F. Ferra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Smart grid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M. Leijon, H. Bo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Sustainable Nuclear Energy T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P.E. Labeau, I.C. Cristescu, L. Juodis, I. Štek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European Photovoltaic T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J. Rekstad, H. Bindsl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ETP for wind energ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E. Soria Lascore, M. Kenn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ETP for zero emission fossil fuel power plant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M. Gronli, A. Konstandopo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kolem je také posuzovat nové projekty a oceňovat postup řešení stávajíc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0"/>
            <a:ext cx="9144000" cy="6558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) Úkoly pracovní skupiny energetik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a) Vytvoření návrhu „cestovní mapy“ Č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zpra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á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kapito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energeti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trategická část; popis současného stav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xisting and new RI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SWOT analý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bulky navrhovaných projektů – s vyznačenými vazbami mezi regionální, národní a mezinárodní infrastruktur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elmi krátký popis jednotlivých projektů včetně současného financování, indikativního rozpočtu do roku 2015 a odhad do roku 2020 tam, kde nezbytně nut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eňování projektů a postupu řešen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b) Kritéria výzkumných infrastruktur (RI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rodní (mezinárodní) význ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pen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frastruktura výzkumu (RI není ústa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roveň výzkumné činnosti (publikace, patenty, 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ezinárodní spoluprá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c) Kritéria posuzování projektů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i) State of the art; ii) Scientific and technical quality; iii) Maturity; iv) Evolution in the next 10-20 years (major up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de/new R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ccepted projects + emerging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0"/>
            <a:ext cx="9144000" cy="6904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) Přehled současných projektů (RIs) v E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Směry VaV energetika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econd generation biofuels; C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capture, transport and storage; wind turbines; photovoltaic and concetrated solar power; smart electricity grids and Trans-European energy networks; efficient energy conversion; energy storage technologies; fission reactors; materials, nanoscience, ICT technologies, bioscience and compu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3333cc"/>
                </a:solidFill>
                <a:uFillTx/>
                <a:latin typeface="Times New Roman"/>
              </a:rPr>
              <a:t>Roadmap 2008 (různé stádium realizace):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ules Horowitz high flux reactor (JHR) –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česká úča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ternational Fusion Materials Irradiation Facility (IFMIF)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igh Power Energy Research Facility (HiPER) –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česká úč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stainable Nuclear Energy Technology Platform – generation IV fast neutron reactor (closed fuel cycle), 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www.snetp.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YRRHA – accelerator driven fast neutron experimental fac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CCSEL (European Carbon Dioxide Capture and Storage Lab. Infrastruct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REI-SOLAR – solar energy, national project, chtějí EU 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0"/>
            <a:ext cx="9144000" cy="6009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D) Přehled současných projektů (RIs) v EU (pokračování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učasné iniciativy VaV energetika (různé stádium realizace):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JTI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Joint Technology Initiatives) 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and ETP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European Technology Platforms) 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uel cells and Hydrogen Joint Technology Initiative – </a:t>
            </a:r>
            <a:r>
              <a:rPr b="0" lang="cs-CZ" sz="2000" spc="-1" strike="noStrike" u="sng">
                <a:solidFill>
                  <a:srgbClr val="ff0066"/>
                </a:solidFill>
                <a:uFillTx/>
                <a:latin typeface="Times New Roman"/>
                <a:hlinkClick r:id="rId1"/>
              </a:rPr>
              <a:t>http://ec.europa.eu/research/fch/index_en.cf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uropean Biofuels Technology Platform – http://www.biofuelstp.e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mart Grids – http://www.smartgrids.e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uropean Photovoltaic Technology Platform – http://www.eupvplatform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uropean Technology Platform for Wind Energy– http://www.windplatform.e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uropean Technology Platform for Zero Emission Fossil Fuel Power Plants– http://www.zero-emissionplatform.eu/website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SE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trategic Energy Technlogy) 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Plan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ERA European Energy Research Alliance – http://www.eera-set.eu/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dustrial Initiative Hydrogen and Fuel Cells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dustrial Initiative Fusion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39"/>
          <p:cNvSpPr/>
          <p:nvPr/>
        </p:nvSpPr>
        <p:spPr>
          <a:xfrm>
            <a:off x="0" y="0"/>
            <a:ext cx="9144000" cy="7500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E) Česká účast v EU projektech 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p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řehled národních infrastruktu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333cc"/>
                </a:solidFill>
                <a:latin typeface="Times New Roman"/>
              </a:rPr>
              <a:t>Reaktor LVR-15 (existující RI, tuzemská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JV; 1957 + modernizace 2007; provozní výkon 15 MW; 135 pracovníků (64 VŠ); interní uživatelé – 7; externí uživatelé – 11; zahraniční uživatelé – 7; provozní náklady = 80-110 mil. Kč; (EERRI, FP6+7, ACCESS; EF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333cc"/>
                </a:solidFill>
                <a:latin typeface="Times New Roman"/>
              </a:rPr>
              <a:t>Reaktor LR-0 (existující RI, tuzemská)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JV; 1982 + modernizace 2008; 27 pracovníků (14 VŠ); provozní náklady = 25-32 mil. Kč; (EUROATOM, IAEA, OECD-N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333cc"/>
                </a:solidFill>
                <a:latin typeface="Times New Roman"/>
              </a:rPr>
              <a:t>Laboratoř neutronové fyziky (existující RI, tuzemská)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ÚJF; 15 zaměstnanců (9 VŠ); interní týmy – 3; externí týmy – 3; zahraniční uživatelé – z 9 zemí; provozní náklady = 6-18 mil. Kč; (FP7, ACCESS, IA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333cc"/>
                </a:solidFill>
                <a:latin typeface="Times New Roman"/>
              </a:rPr>
              <a:t>HiPER (High Power Energy Resource, zahraniční VB)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zÚ, ÚFP (celkem 9); financování = 20 mil. Kč/rok do 2010; spojení s ESF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333cc"/>
                </a:solidFill>
                <a:latin typeface="Times New Roman"/>
              </a:rPr>
              <a:t>JHR (Jules Horowitz Reactor, zahraniční Francie)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7 partnerů; financování = 60-70 mil. Kč/rok do roku 2010; spojení s ESFRI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333cc"/>
                </a:solidFill>
                <a:latin typeface="Times New Roman"/>
              </a:rPr>
              <a:t>CVEVL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– využití geotermální energie (OP VaVP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0"/>
            <a:ext cx="9144000" cy="6558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G) Postup činností pracovní skupiny energetik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Strategická část; popis současného stavu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(existing and new RI)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, SWOT analýz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l vytvoře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znam pracovišť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ůsobících v oblasti VaV v energeti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oměrně dobře je pokryta oblast RI „udržitelné jaderné energie“; chybí informace o klasické energetice, solární, větrné... energetice, smart grids, materiálovém výzkumu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l vytvořen krátký dotazník, který bude rozeslán subjektům VaV podle bodu A)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otním cílem je získání podrobných informací o výzkumných infrastrukturách v ČR; konečným cílem je získání dalších návrhů na RI, případně koordinace stávajících a nově navrhovaných infrastruktur (včetně finančních potřeb do r. 202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ín = konec zář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Pracovištím b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e zaslána  informace o ESFRI procesu a činnosti Energy Working Grou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myslem je zapojení českých výzkumných pracovišť či týmů do evropských iniciativ. Ideální stav by byla lokalizace nové infrastruktury na území ČR (single sited, distributed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Odborný odhad oboru do roku 2020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na základě získaných údajů z ČR, z ESFRI iniciativ, včetně indikativního rozpoč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1T15:10:31Z</dcterms:created>
  <dc:creator>IS</dc:creator>
  <dc:description/>
  <dc:language>en-US</dc:language>
  <cp:lastModifiedBy>witzanyovan</cp:lastModifiedBy>
  <dcterms:modified xsi:type="dcterms:W3CDTF">2009-09-25T14:02:03Z</dcterms:modified>
  <cp:revision>828</cp:revision>
  <dc:subject/>
  <dc:title>Problematika pozadí v experimentech subjaderné fyziky </dc:title>
</cp:coreProperties>
</file>